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4BC5-5504-4476-93E4-6F0385B4B1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21F3-FC57-49D6-998A-A90C859EFE3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9A92-68F4-434E-9F4D-8C18A6773F3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E57-3911-4B6E-A1A7-E6ABB269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8FC-7C25-4580-957C-D236E5E1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898-B27A-4264-B2AD-57C5C88F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F61-A605-4776-9976-C263EEF7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82CC-68F3-4812-B0FD-2D43879E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7414-62AB-4DD8-80FF-B8B944D0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9022-D2DB-473D-B03A-65CDFB9C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1C42-669F-49F5-A539-066484B3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DC7B-AFDC-4307-BE69-2B30C373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A98D-D500-4E1D-89A9-C70D0C5D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AE22-4D48-4A12-83F4-7B469EBD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321F-7C18-4CE8-B9C0-CAF4D136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9B51-AD03-4B75-BCA8-9A888BAC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9914-0385-45E8-9E18-39A9133F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2B48-0485-49D5-AD8B-86879615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A4AF-2DA1-4F2B-8097-24BE29A9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3C65-E880-4066-B14B-ED08978E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B3E-3DD9-4B69-9C04-A991A422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1E6-0C5D-4893-80B4-4262DB04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382-73BF-4D28-83F1-5207F69D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45F-8F77-4689-9954-3B2F6B48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E06-2608-476C-8ED7-15B417CA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BE6-1C8D-4C37-964B-0876897E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870-3B20-42A9-A1D4-1068E4D0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CF13-89F0-4740-B929-5769BB0FD0E9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41F4-0822-4C46-B7A3-EDE17307EA6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ЭФФЕКТИВНЫЕ ФОРМЫ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И МЕХАНИЗМЫ ПОВЫШЕНИЯ ОБРАЗОВАТЕЛЬНЫХ РЕЗУЛЬТАТОВ ОБУЧАЮЩИХ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ОПРОВОЖДЕНИЯ ГРУПП УЧИТЕЛЕЙ-ПРЕДМЕТНИК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143000"/>
          <a:ext cx="8229600" cy="5616720"/>
        </p:xfrm>
        <a:graphic>
          <a:graphicData uri="http://schemas.openxmlformats.org/drawingml/2006/table">
            <a:tbl>
              <a:tblPr/>
              <a:tblGrid>
                <a:gridCol w="3441600"/>
                <a:gridCol w="2768760"/>
                <a:gridCol w="201924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рта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июн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1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ноября 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В 2018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было охваче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9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чальная школа; основная и средня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иностранный язык, математика, химия, история и обществознание, физика, географ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целев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овышению образовательных результатов обучающихся в урочной и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научно-методических рекоменд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инятию новых управленческих решений со стороны управлений образованием, административных команд, учителей-предметников, направленных на качественную подготовку выпускников к государственной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БРАЗОВАТЕЛЬНЫЙ ЛИФТ – 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направленнос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едметно-методической компетентности учителей-предме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ение дефицитны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я для их реализации (вариати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бразования, тьюторского сопровождения учащихся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евая оценка предметной и методической компетенций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взаимодействия в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образовательных результатов обучающихся в зависимости от возможностей и способностей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ая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ОПРОВОЖДЕНИЯ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136520"/>
          <a:ext cx="8610480" cy="5567400"/>
        </p:xfrm>
        <a:graphic>
          <a:graphicData uri="http://schemas.openxmlformats.org/drawingml/2006/table">
            <a:tbl>
              <a:tblPr/>
              <a:tblGrid>
                <a:gridCol w="3600360"/>
                <a:gridCol w="3257640"/>
                <a:gridCol w="1752480"/>
              </a:tblGrid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-апрель 2019 г.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густ-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работы в рамках предметных се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Я ПРОЕК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391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ети не должны быть заложниками социального или культурного статуса своих сем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школы работают в трудных социальных условиях, то и они, а  не только гимназии и лицеи, работающие, как правило, с благополучными детьми, должны получать специальную поддержку – и методическую, и кадровую, и финансовую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В.Пу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Яковлева Надежда Геннадьевна,  научный сотрудник отдела сопровождения ФГОС ИРО ПК (р.т. 8-342- 212-21-99; с.т. 8-909-731-01-80, 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e-mail fanni1909@yandex.r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ЕДЫСТОРИЯ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Пермского кр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28.11.2014г  № СЭД-26-01-04-1037 (пункт 13.4.9. «Об утверждении Перечня краевых мероприятий краевых, объема средств и способов закупки товаров и услуг для их реализации в 2015 году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сти бюджетные очные к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вышения квалификации по программам дополнительного профессионального образования в рамк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евого проекта «Образовательный лифт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ителей Александровского, Бардымского, Карагайского, Косинского, Кочёвского, Ординского, Сивинского, Соликамского, Уинского, Усольского муниципальных райо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жидаемый образовательный результат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владение учителями продуктивными методами и приёмами подготовки выпускников к итоговой аттест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лучшение результатов ГИА и ЕГЭ по русскому языку  в данных АТЕ в 2015 год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6» Александр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25» г. Губах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редняя общеобразовательная школа №3» Гремяч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Средняя общеобразовательная школа № 1» Кизел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Госконзаводская средняя общеобразовательная школа» Куед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сновная общеобразовательная школа № 13» Лысьве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Новоильинский казачий кадетский корпус имени Атамана Ермака» Нытвенского 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Петропавловская средняя общеобразовательная школа» Октябрь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черская средняя общеобразовательная школа № 2» Очер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107» г. Пер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Деменевская средняя общеобразовательная школа» Чернуш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91» Чус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СПИСОК ОО-АП КРАЕВОГО ПРОЕКТА «ОБРАЗОВАТЕЛЬНЫЙ ЛИФТ» В 2017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– 2017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 было охваче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ы практико-ориентированные курсы повышения квалификации (72 ч.) по предметам:«русский язык», «математика», «обществознание», «биология», «химия», «английский язык» – с целью подготовки к ЕГЭ, ОГЭ, по предмету «физическая культура» – с целью повышения уровня социализац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модели эффективной школы на базе ОУ-апробационных площадок (МБОУ «СОШ № 1» г Кизела; МБОУ «СОШ № 6» Александровского района; МКОУ «СОШ № 3» Гремячинского района; МБОУ «СОШ № 91»» Чус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ны сетевые проблемные группы педагогов-предметников школ с НРО, НСУ (около 200 челове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ена диссеминация лучших методик и практ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инициативные центры, точки роста по обобщению лучших методик и практик по подготовке к ОГЭ и ЕГЭ по предмету, а также осуществлена трансляция их на краевом, межрегиональном уров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ОВЫЕ ИССЛЕДОВАНИЯ ШКОЛ В 2017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52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и проведен экспертный опрос руководителей МОУО по оценке шк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эффективности образовательной деятельности школ (НРО, СРО, ВРО) по 17 показателям – охват 732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социальных условий (НСУ, ОНСУ, ССУ, БСУ, ВСУ) по 18 показателям – охват 702 ОО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ы сводные списки школ по объективированным показателям образовательных результатов и социальных усло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ЧТО ОЗНАЧАЕТ «ШКОЛА С НИЗКИМИ РЕЗУЛЬТА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школы, в которых результаты ЕГЭ, ОГЭ ниже среднерегиональных на 15 и более бал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анализа были взяты результаты ЕГЭ, ОГЭ по русскому языку и математике за 2016 год в СОШ Пермского кр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ыведен интегральный показатель и составлен рейтинг 291 СОШ (из 701 ОО Пермского кра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рейтингу было выявлено 55 школ, в которых интегральный показатель был ниже среднекраевого на 12 и более баллов, из них в 21 СОШ интегральный показатель был ниже среднекраевого на 14,7 и более бал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Для работы в качестве апробационных площадок было выбрано 12 школ из 12 муниципальных районов Пермского края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+  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исоединившиеся ОО по решению муниципалитетов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участники - школы с низкими результатами обучения (НРО), функционирующие в социально неблагоприятных условиях (НСУ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ПИСОК ОО-АП КРАЕВОГО ПРОЕКТА «ОБРАЗОВАТЕЛЬНЫЙ ЛИФТ» В 2018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1» г. Охан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Основная общеобразовательная школа № 7» г. Краснока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Екатерининская средняя общеобразовательная школа» Сив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Чермозская средняя общеобразовательная школа им. В.Ершова» Иль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«Стряпунинская средняя общеобразовательная школа» Краснока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Средняя общеобразовательная школа» п.Пашия Горнозавод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таро-Шагиртская средняя общеобразовательная школа» Куед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юндюковская средняя общеобразовательная школа» Барды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Тюшевская средняя общеобразовательная школа» Октябрь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Усть-Туркская средняя общеобразовательная школа» Кунгур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исовская средняя общеобразовательная школа – Детский сад» Суксу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 «Кордонская средняя общеобразовательная школа им. М.Ю.Шатунова» Кишерт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ТЕХНИЧЕСКОЕ ЗАДАНИЕ ДЛЯ УЧИТЕЛЕЙ 2018 ГОДА.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индивидуальных затруднений обучающихся при подготовке к сдаче экзаме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предметной компетентности выпуск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ы по принятию управленческих решений, направленных на повышение образовательных результатов 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формата задания; сроков; актуальности;  целей, задач; условий (кадровых, технических, методических, социальных); планируем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 основе диагностики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н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косрочное (четверть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ое (полугодие, год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ое, содержательное  наполнение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9-04-22T08:38:27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